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9" idx="3"/>
            <a:endCxn id="100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mmunglobulin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4480" y="54936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globul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globul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globulin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1240" y="549360"/>
            <a:ext cx="46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globulin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Immunglobuli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3"/>
            <a:endCxn id="10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angel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olostrumaufnahm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3:41:11Z</dcterms:modified>
  <cp:revision>328</cp:revision>
  <dc:subject/>
  <dc:title>Vorstellung einer Neuheit</dc:title>
</cp:coreProperties>
</file>